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3D59E-CE23-4059-98AF-8C95A7D62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98FB0-4129-4A51-9403-C05906CF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4DA6A-5BFD-4DFA-8040-E0A75D12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B7C3F-858F-4DCB-A4C7-1FDAAFEE2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E390-4A7C-4B16-8277-4E9FB3DC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24D7-00AD-458F-BFBE-76992318B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2F2D-59B8-4368-85A9-8C750F46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2EEA-9F9A-4682-85AE-F3726A2D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7303-AC29-4E32-AA30-B269A39E1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A282-F59A-4C1C-A179-B7679EF9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2F43-B8CA-44C0-8865-C330BAAB7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0835-B0CE-4638-866C-3F055D5A8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385A-FD80-4459-908B-694E095AF6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ity_manager"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oag.state.tx.us/AG_Publications/pdfs/openmeeting_hb.pdf"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lvin-tx.gov/docs/3-cclerk.RulesForPetitionFrom%20Public.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ato.org/pubs/journal/cjv14n2-9.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hyperlink" Target="http://www1.cuny.edu/portal_ur/content/voting_curriculum/urban_politics.html" TargetMode="External"/><Relationship Id="rId3" Type="http://schemas.openxmlformats.org/officeDocument/2006/relationships/hyperlink" Target="http://www.digitalhistory.uh.edu/historyonline/us28.cfm"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lvin-tx.gov/default.aspx?name=cc.hom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library.municode.com/index.aspx?clientId=10357"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library.municode.com/index.aspx?clientId=10357"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erriam-webster.com/dictionary/ordinance" TargetMode="External"/><Relationship Id="rId2" Type="http://schemas.openxmlformats.org/officeDocument/2006/relationships/hyperlink" Target="http://www.houstontx.gov/cod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cityofmanvel.com/cms/index.php?option=com_content&amp;view=article&amp;id=12&amp;Itemid=27"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library.municode.com/index.aspx?clientId=14024&amp;stateId=43&amp;stateName=Texas"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r.office.microsoft.com/r/rlidFPExpediaLinkBotResults?src=FP&amp;lats1=29.48059&amp;lons1=-95.35161&amp;alts1=7.16667&amp;name=6615+Masters+Rd,+Manvel,+TX+77578"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i.pearland.tx.us/index.asp?Type=B_BASIC&amp;SEC=%7B148E8A96-24BB-46B9-AE01-697264A4F4D5%7D"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library.municode.com/index.aspx?clientId=19947"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library.municode.com/HTML/19947/level2/CH_ART3THCO.html#CH_ART3THCO_S3.07POCO"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trongmayorcouncil.org/structures.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library.municode.com/HTML/19947/level2/CH_ART3THCO.html#CH_ART3THCO_S3.08MECO"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ibrary.municode.com/HTML/19947/level2/CH_ART3THCO.html#CH_ART3THCO_S3.09RUPR"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library.municode.com/HTML/19947/level2/CH_ART3THCO.html#CH_ART3THCO_S3.10PRPAORRE"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houstontx.gov/council/"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houstontx.gov/abouthouston/citygovt.html" TargetMode="External"/><Relationship Id="rId2" Type="http://schemas.openxmlformats.org/officeDocument/2006/relationships/hyperlink" Target="http://www.houstontx.gov/council/index.html" TargetMode="Externa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Houston_City_Council"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s://docs.google.com/viewer?a=v&amp;q=cache:nAVbMonR7-wJ:www.pewtrusts.org/uploadedFiles/wwwpewtrustsorg/Reports/Philadelphia_Research_Initiative/City_Council_Philadelphia_Major_cities.pdf+&amp;hl=en&amp;gl=us&amp;pid=bl&amp;srcid=ADGEEShM3lUp4OJMUFczMmqkdTx9vobhO7k8NKjc1vyFP5uW0wKffLbJh35-JqhN4d05A2qytspKxV4mVyvAlTKMPdbuWOs4mUHxGIHjn5Eqi9oNwm9FsOAsyKQCLoM4MP_yA6jq8hrg&amp;sig=AHIEtbR9NOM6t29Ut6s_NaR0igG77GHjeA&amp;pli=1"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houstontx.gov/council/aocc.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library.municode.com/index.aspx?clientId=10123" TargetMode="External"/><Relationship Id="rId2" Type="http://schemas.openxmlformats.org/officeDocument/2006/relationships/hyperlink" Target="http://library.municode.com/index.aspx?clientId=10123" TargetMode="External"/><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library.municode.com/HTML/10123/level2/CH_ARTVOFEL.html#CH_ARTVOFEL_S2COME"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library.municode.com/HTML/10123/level2/CH_ARTVOFEL.html#CH_ARTVOFEL_S3ESDIBODEPO"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library.municode.com/HTML/10123/level2/CH_ARTVOFEL.html#CH_ARTVOFEL_S4QUELOF"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library.municode.com/HTML/10123/level2/CH_ARTVOFEL.html#CH_ARTVOFEL_S5E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library.municode.com/HTML/10123/level2/CH_ARTVOFEL.html#CH_ARTVOFEL_S6CAFIOF"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library.municode.com/HTML/10123/level2/CH_ARTVOFEL.html#CH_ARTVOFEL_S6ALITE"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library.municode.com/HTML/10123/level2/CH_ARTVIICICO.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uncil-manager_government"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khou.com/news/politics/Which-city-officials-are-getting-the-big-bucks-100377119.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library.municode.com/HTML/10123/level2/CH_ARTVIICICO.html#CH_ARTVIICICO_S3ME"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rea City Counci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ementation of these policies are then given to a </a:t>
            </a:r>
            <a:r>
              <a:rPr b="0" lang="en-US" sz="4400" spc="-1" strike="noStrike" u="sng">
                <a:solidFill>
                  <a:srgbClr val="0000ff"/>
                </a:solidFill>
                <a:uFillTx/>
                <a:latin typeface="Calibri"/>
                <a:hlinkClick r:id="rId1"/>
              </a:rPr>
              <a:t>city manager</a:t>
            </a:r>
            <a:r>
              <a:rPr b="0" lang="en-US" sz="4400" spc="-1" strike="noStrike">
                <a:solidFill>
                  <a:srgbClr val="000000"/>
                </a:solidFill>
                <a:latin typeface="Calibri"/>
              </a:rPr>
              <a:t> who is hired to provide professional management of city functions. </a:t>
            </a:r>
            <a:br>
              <a:rPr sz="4400"/>
            </a:br>
            <a:br>
              <a:rPr sz="4400"/>
            </a:br>
            <a:r>
              <a:rPr b="0" lang="en-US" sz="4400" spc="-1" strike="noStrike">
                <a:solidFill>
                  <a:srgbClr val="000000"/>
                </a:solidFill>
                <a:latin typeface="Calibri"/>
              </a:rPr>
              <a:t>They are then held accountable by the city council and can be replaced if deemed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ity manager form is to both professionalize the operations of city governments and to reduce the opportunities for political favoritism and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eak mayor – council, the mayor’s power is limited in key ways – meaning that the city council’s powers are enhanced. </a:t>
            </a:r>
            <a:br>
              <a:rPr sz="3200"/>
            </a:br>
            <a:br>
              <a:rPr sz="3200"/>
            </a:br>
            <a:r>
              <a:rPr b="0" lang="en-US" sz="3200" spc="-1" strike="noStrike">
                <a:solidFill>
                  <a:srgbClr val="000000"/>
                </a:solidFill>
                <a:latin typeface="Calibri"/>
              </a:rPr>
              <a:t>The ability to appoint and remove executive officials is limited as is the veto power and influence over the budget. As with the council – manager form, the mayor is a ceremonial position. The position has the same powers as other members of the city council, but as figure head, get to cut ribbons and represent the city and other such thing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not especially efficient systems, and are used primarily in smaller cities which have little interest in substantive growth (which requires some concentrated strength to obtain). </a:t>
            </a:r>
            <a:br>
              <a:rPr sz="4000"/>
            </a:br>
            <a:br>
              <a:rPr sz="4000"/>
            </a:br>
            <a:r>
              <a:rPr b="0" lang="en-US" sz="3600" spc="-1" strike="noStrike">
                <a:solidFill>
                  <a:srgbClr val="000000"/>
                </a:solidFill>
                <a:latin typeface="Calibri"/>
              </a:rPr>
              <a:t>They are reflective of the Jacksonian desire to keep government at all levels sma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rong Mayor form, the powers of city council are limited by mayors that are elected fulltime and are granted significant powers over appointment, the budget, the agenda of city council and other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se forms, the city council is designed to check the power of the mayor. </a:t>
            </a:r>
            <a:br>
              <a:rPr sz="4000"/>
            </a:br>
            <a:br>
              <a:rPr sz="4000"/>
            </a:br>
            <a:r>
              <a:rPr b="0" lang="en-US" sz="4000" spc="-1" strike="noStrike">
                <a:solidFill>
                  <a:srgbClr val="000000"/>
                </a:solidFill>
                <a:latin typeface="Calibri"/>
              </a:rPr>
              <a:t>Appointments have to be approved, stops can be placed on items the mayor wants considered by the council, and the council must approve the budget. More on this below when we look at Houston’s counci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quick points before we look at some area city counc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are subject to the </a:t>
            </a:r>
            <a:r>
              <a:rPr b="0" lang="en-US" sz="4400" spc="-1" strike="noStrike" u="sng">
                <a:solidFill>
                  <a:srgbClr val="0000ff"/>
                </a:solidFill>
                <a:uFillTx/>
                <a:latin typeface="Calibri"/>
                <a:hlinkClick r:id="rId1"/>
              </a:rPr>
              <a:t>Texas Open Meetings Act</a:t>
            </a:r>
            <a:r>
              <a:rPr b="0" lang="en-US" sz="4400" spc="-1" strike="noStrike">
                <a:solidFill>
                  <a:srgbClr val="000000"/>
                </a:solidFill>
                <a:latin typeface="Calibri"/>
              </a:rPr>
              <a:t>.</a:t>
            </a:r>
            <a:br>
              <a:rPr sz="4400"/>
            </a:br>
            <a:br>
              <a:rPr sz="4400"/>
            </a:br>
            <a:br>
              <a:rPr sz="4400"/>
            </a:br>
            <a:br>
              <a:rPr sz="4400"/>
            </a:br>
            <a:br>
              <a:rPr sz="2400"/>
            </a:br>
            <a:r>
              <a:rPr b="0" lang="en-US" sz="2400" spc="-1" strike="noStrike">
                <a:solidFill>
                  <a:srgbClr val="000000"/>
                </a:solidFill>
                <a:latin typeface="Calibri"/>
              </a:rPr>
              <a:t>(as are all meetings of governmental bodies, but the law is especially focused on local and single purpose govern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ct requires that “meetings of governmental bodies to be open to the public, except for expressly authorized closed sessions,1 and to be preceded by public notice of the time, place and subject matter of the me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o ensure that decisions made – which can involve the distribution of public funds – are open and transparent. </a:t>
            </a:r>
            <a:br>
              <a:rPr sz="4400"/>
            </a:br>
            <a:br>
              <a:rPr sz="3600"/>
            </a:br>
            <a:r>
              <a:rPr b="0" lang="en-US" sz="3600" spc="-1" strike="noStrike">
                <a:solidFill>
                  <a:srgbClr val="000000"/>
                </a:solidFill>
                <a:latin typeface="Calibri"/>
              </a:rPr>
              <a:t>Small groups – as is common in city councils – are ideally suited to corrup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several times previously, municipal corporations, depending on what is written in their charter, have city councils that have certain powers, including the ability to pass ord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ity council meetings follow a specific format overseen by the presiding officer, which is often the may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describes how Alvin City Council meetings are conducted: </a:t>
            </a:r>
            <a:br>
              <a:rPr sz="4400"/>
            </a:br>
            <a:br>
              <a:rPr sz="4400"/>
            </a:br>
            <a:r>
              <a:rPr b="0" lang="en-US" sz="3200" spc="-1" strike="noStrike" u="sng">
                <a:solidFill>
                  <a:srgbClr val="0000ff"/>
                </a:solidFill>
                <a:uFillTx/>
                <a:latin typeface="Calibri"/>
                <a:hlinkClick r:id="rId1"/>
              </a:rPr>
              <a:t>CITY OF ALVIN: RULES AND PROCEDURES FOR PETITIONS OR REQUESTS FROM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ity Council Elections are non-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andidates for positions in other levels of government – notable national and state, as well as county – run as members of political parties, candidates for city office do not. </a:t>
            </a:r>
            <a:br>
              <a:rPr sz="4400"/>
            </a:br>
            <a:br>
              <a:rPr sz="4400"/>
            </a:br>
            <a:r>
              <a:rPr b="0" lang="en-US" sz="4400" spc="-1" strike="noStrike">
                <a:solidFill>
                  <a:srgbClr val="000000"/>
                </a:solidFill>
                <a:latin typeface="Calibri"/>
              </a:rPr>
              <a:t>This is also true for single purpos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o limit the ability of party machines to develop at the local level.</a:t>
            </a:r>
            <a:br>
              <a:rPr sz="4000"/>
            </a:br>
            <a:br>
              <a:rPr sz="4000"/>
            </a:br>
            <a:r>
              <a:rPr b="0" lang="en-US" sz="4000" spc="-1" strike="noStrike">
                <a:solidFill>
                  <a:srgbClr val="000000"/>
                </a:solidFill>
                <a:latin typeface="Calibri"/>
              </a:rPr>
              <a:t>In order to further limit this tendency, city elections are also help in odd numbered years so that city elections cannot be coordinated with state and nationa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ctuality though – informed voters are aware of which party city council candidates affiliate with.</a:t>
            </a:r>
            <a:br>
              <a:rPr sz="4400"/>
            </a:br>
            <a:br>
              <a:rPr sz="4400"/>
            </a:br>
            <a:r>
              <a:rPr b="0" lang="en-US" sz="4400" spc="-1" strike="noStrike">
                <a:solidFill>
                  <a:srgbClr val="000000"/>
                </a:solidFill>
                <a:latin typeface="Calibri"/>
              </a:rPr>
              <a:t>But this is unoffic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As opposed to state and national legislatures, many city council position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oponents of term limits</a:t>
            </a:r>
            <a:r>
              <a:rPr b="0" lang="en-US" sz="4400" spc="-1" strike="noStrike">
                <a:solidFill>
                  <a:srgbClr val="000000"/>
                </a:solidFill>
                <a:latin typeface="Calibri"/>
              </a:rPr>
              <a:t> argue that they allow for turnover in city councils – which augments democracy – and minimizes the corruption by breaking apart any political machines which may allow a powerful political faction to control the establishment and implementation of city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limits – along with other reforms (like primary elections, civil service reforms, registration requirements) are seen as ways to break up </a:t>
            </a:r>
            <a:r>
              <a:rPr b="0" lang="en-US" sz="4400" spc="-1" strike="noStrike" u="sng">
                <a:solidFill>
                  <a:srgbClr val="0000ff"/>
                </a:solidFill>
                <a:uFillTx/>
                <a:latin typeface="Calibri"/>
                <a:hlinkClick r:id="rId1"/>
              </a:rPr>
              <a:t>urban political machin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or more info on these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legislators who serve for long periods of time are necessary parts of these machines. </a:t>
            </a:r>
            <a:br>
              <a:rPr sz="4400"/>
            </a:br>
            <a:br>
              <a:rPr sz="4400"/>
            </a:br>
            <a:r>
              <a:rPr b="0" lang="en-US" sz="4400" spc="-1" strike="noStrike">
                <a:solidFill>
                  <a:srgbClr val="000000"/>
                </a:solidFill>
                <a:latin typeface="Calibri"/>
              </a:rPr>
              <a:t>This is true for the state and local level, but terms limits have not been imposed on either of those levels. There is a reason for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end to be small, local councils have less than 10 people. </a:t>
            </a:r>
            <a:br>
              <a:rPr sz="4400"/>
            </a:br>
            <a:br>
              <a:rPr sz="4400"/>
            </a:br>
            <a:r>
              <a:rPr b="0" lang="en-US" sz="4400" spc="-1" strike="noStrike">
                <a:solidFill>
                  <a:srgbClr val="000000"/>
                </a:solidFill>
                <a:latin typeface="Calibri"/>
              </a:rPr>
              <a:t>Councils perform general legislative functions. They provide representation to various constituencies in the city, propose and vote on bills that help govern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bjections to terms limits for at least a couple reasons. One is that it also minimizes democracy by limiting the choices voters can make. What if they wish to keep a good city council member in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is that removing a member of the city council does not means that the power of the council is diminished, it is just displaced. </a:t>
            </a:r>
            <a:br>
              <a:rPr sz="3600"/>
            </a:br>
            <a:br>
              <a:rPr sz="3600"/>
            </a:br>
            <a:r>
              <a:rPr b="0" lang="en-US" sz="3600" spc="-1" strike="noStrike">
                <a:solidFill>
                  <a:srgbClr val="000000"/>
                </a:solidFill>
                <a:latin typeface="Calibri"/>
              </a:rPr>
              <a:t>Powerful outside interests and those who hold more permanent positions in city government can gain influence over policy. Powerful groups can still have influence over city government, but these are no longer limited (checked and balanced) by equally powerful city council memb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local city council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city councils of four area cities.</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Pearland</a:t>
            </a:r>
            <a:br>
              <a:rPr sz="4400"/>
            </a:br>
            <a:r>
              <a:rPr b="0" lang="en-US" sz="4400" spc="-1" strike="noStrike">
                <a:solidFill>
                  <a:srgbClr val="000000"/>
                </a:solidFill>
                <a:latin typeface="Calibri"/>
              </a:rPr>
              <a:t>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lvi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hit a few points made in the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 describing the operations of the council.</a:t>
            </a:r>
            <a:br>
              <a:rPr sz="4400"/>
            </a:br>
            <a:br>
              <a:rPr sz="4400"/>
            </a:br>
            <a:r>
              <a:rPr b="0" lang="en-US" sz="4400" spc="-1" strike="noStrike">
                <a:solidFill>
                  <a:srgbClr val="000000"/>
                </a:solidFill>
                <a:latin typeface="Calibri"/>
              </a:rPr>
              <a:t>These are primarily from Part I of the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council – manager form of government. Here is the relevant language from the City Charter, which can be found in Article I of the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municipal government provided by this Charter shall be the council-manager form of government. Pursuant to the provisions of, and subject only to the limitations imposed by the state and federal constitution, the state and federal laws, and this Charter, all powers of the city shall be vested in an elective council, hereinafter referred to as the "council," which shall enact legislation, adopt budgets, determine policies, and appoint the city manager, who shall execute the laws and administer the government of the c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Council is 5-2-1, meaning that it has 5 single member districts, 2 at large districts and a mayor. This is due to a lawsuit challenging the at-large scheme the city had prior to 2006.</a:t>
            </a:r>
            <a:br>
              <a:rPr sz="4400"/>
            </a:br>
            <a:br>
              <a:rPr sz="4400"/>
            </a:br>
            <a:r>
              <a:rPr b="0" lang="en-US" sz="4400" spc="-1" strike="noStrike">
                <a:solidFill>
                  <a:srgbClr val="000000"/>
                </a:solidFill>
                <a:latin typeface="Calibri"/>
              </a:rPr>
              <a:t>The mayor is considered to be part of the city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 “The governing body of the city shall be a city council composed of seven (7) councilmembers and a mayor, each elected for a term of three years. The council districts shall be designated as Districts A, B, C, D and E and At-Large Positions 1 and 2. The mayor and councilmembers for At-Large Positions 1 and 2 shall be elected from the city at-large. Councilmembers for Districts A, B, C, D and E shall each be elected by vote of the qualified voters residing within a corresponding lettered single member district established by ordinance. The terms of the mayor and councilmembers shall be staggered three year terms, and the transition to three year terms shall be as provided in Sec. 3”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importantly, the council provides a democratic function by allowing the general population to control the overall direction of local policy through elections. </a:t>
            </a:r>
            <a:br>
              <a:rPr sz="4400"/>
            </a:br>
            <a:br>
              <a:rPr sz="4400"/>
            </a:br>
            <a:r>
              <a:rPr b="0" lang="en-US" sz="4400" spc="-1" strike="noStrike">
                <a:solidFill>
                  <a:srgbClr val="000000"/>
                </a:solidFill>
                <a:latin typeface="Calibri"/>
              </a:rPr>
              <a:t>By changing who is on the city council they can slowly change the direction of city gover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ity Council member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No mayor or councilmember may serve more than three (3) terms of office (inclusive of unexpired terms) nor shall the tenure of office exceed nine (9)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requirements to be a member of the Alvin City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 be at least eighteen years of age; (ii) be citizens of the United States; (iii) be qualified voters of the city; (iv) have been residents of the State of Texas for at least twelve consecutive months; (v) have been residents of the city and the district for which they seek election, or an area having been annexed into the city and/or the district, for at least six consecutive months; (vi) not be delinquent on any indebtedness to the city; and (vii) meet all other qualifications for eligibility set forth in the Texas Election C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has investigativ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cil has “the power to inquire into the official conduct of any department, agency, office, officer, or employee of the city, and into any other matters of proper concern to the Municip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cannot interfere with administrative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either the council nor any of its members shall direct or request the city manager or any of his/her subordinates to appoint or to remove from office or employment any person except a person whose office is filled by appointment of the council under the provisions of this Charter. Except for the purpose of inquiry and investigation, the council and its members shall deal with the administrative services of the city solely through the city manager; and neither the council nor any member thereof shall give orders to any subordinate of the city manager, either publicly or privat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 like many Texas cities – is an initiative, referendum and recall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cities pass “</a:t>
            </a:r>
            <a:r>
              <a:rPr b="0" lang="en-US" sz="4400" spc="-1" strike="noStrike" u="sng">
                <a:solidFill>
                  <a:srgbClr val="0000ff"/>
                </a:solidFill>
                <a:uFillTx/>
                <a:latin typeface="Calibri"/>
                <a:hlinkClick r:id="rId1"/>
              </a:rPr>
              <a:t>ordinances</a:t>
            </a:r>
            <a:r>
              <a:rPr b="0" lang="en-US" sz="4400" spc="-1" strike="noStrike">
                <a:solidFill>
                  <a:srgbClr val="000000"/>
                </a:solidFill>
                <a:latin typeface="Calibri"/>
              </a:rPr>
              <a:t>” not laws. </a:t>
            </a:r>
            <a:br>
              <a:rPr sz="4400"/>
            </a:br>
            <a:br>
              <a:rPr sz="4400"/>
            </a:br>
            <a:r>
              <a:rPr b="0" lang="en-US" sz="4400" spc="-1" strike="noStrike">
                <a:solidFill>
                  <a:srgbClr val="000000"/>
                </a:solidFill>
                <a:latin typeface="Calibri"/>
              </a:rPr>
              <a:t>Example: </a:t>
            </a:r>
            <a:r>
              <a:rPr b="0" lang="en-US" sz="4400" spc="-1" strike="noStrike" u="sng">
                <a:solidFill>
                  <a:srgbClr val="0000ff"/>
                </a:solidFill>
                <a:uFillTx/>
                <a:latin typeface="Calibri"/>
                <a:hlinkClick r:id="rId2"/>
              </a:rPr>
              <a:t>Houston’s 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vel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vel also has a </a:t>
            </a:r>
            <a:r>
              <a:rPr b="0" lang="en-US" sz="3600" spc="-1" strike="noStrike" u="sng">
                <a:solidFill>
                  <a:srgbClr val="0000ff"/>
                </a:solidFill>
                <a:uFillTx/>
                <a:latin typeface="Calibri"/>
                <a:hlinkClick r:id="rId1"/>
              </a:rPr>
              <a:t>council – manager form of government</a:t>
            </a:r>
            <a:r>
              <a:rPr b="0" lang="en-US" sz="3600" spc="-1" strike="noStrike">
                <a:solidFill>
                  <a:srgbClr val="000000"/>
                </a:solidFill>
                <a:latin typeface="Calibri"/>
              </a:rPr>
              <a:t>: </a:t>
            </a:r>
            <a:br>
              <a:rPr sz="3200"/>
            </a:br>
            <a:br>
              <a:rPr sz="3200"/>
            </a:br>
            <a:r>
              <a:rPr b="0" lang="en-US" sz="3200" spc="-1" strike="noStrike">
                <a:solidFill>
                  <a:srgbClr val="000000"/>
                </a:solidFill>
                <a:latin typeface="Calibri"/>
              </a:rPr>
              <a:t>The municipal government provided by this Charter shall be known as a "council-manager form of government." Pursuant to the provisions of, and subject only to the limitations imposed by, the state constitution, state laws and this Charter, all powers of the city shall be vested in an elective council, hereinafter referred to as the "city council" or the "counc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Manvel webpage on the city council: </a:t>
            </a:r>
            <a:br>
              <a:rPr sz="3600"/>
            </a:br>
            <a:br>
              <a:rPr sz="3600"/>
            </a:br>
            <a:r>
              <a:rPr b="0" lang="en-US" sz="3600" spc="-1" strike="noStrike">
                <a:solidFill>
                  <a:srgbClr val="000000"/>
                </a:solidFill>
                <a:latin typeface="Calibri"/>
              </a:rPr>
              <a:t>The Manvel Council members are the city's legislators. Their primary duty is policymaking, which includes identifying the needs of local residents, formulating programs to meet the changing requirements of the community, and measuring the effectiveness of ongoing municipal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nvel City Council meets twice monthly, on the 2nd and 4th Monday of every month. The meeting starts at 7:00 p.m. and is held at </a:t>
            </a:r>
            <a:r>
              <a:rPr b="0" lang="en-US" sz="4000" spc="-1" strike="noStrike" u="sng">
                <a:solidFill>
                  <a:srgbClr val="0000ff"/>
                </a:solidFill>
                <a:uFillTx/>
                <a:latin typeface="Calibri"/>
                <a:hlinkClick r:id="rId1"/>
              </a:rPr>
              <a:t>Manvel City Hall</a:t>
            </a:r>
            <a:r>
              <a:rPr b="0" lang="en-US" sz="4000" spc="-1" strike="noStrike">
                <a:solidFill>
                  <a:srgbClr val="000000"/>
                </a:solidFill>
                <a:latin typeface="Calibri"/>
              </a:rPr>
              <a:t>. The meetings are open to the public and input is encouraged.</a:t>
            </a:r>
            <a:br>
              <a:rPr sz="4000"/>
            </a:br>
            <a:br>
              <a:rPr sz="4000"/>
            </a:br>
            <a:r>
              <a:rPr b="0" lang="en-US" sz="4000" spc="-1" strike="noStrike">
                <a:solidFill>
                  <a:srgbClr val="000000"/>
                </a:solidFill>
                <a:latin typeface="Calibri"/>
              </a:rPr>
              <a:t>Council members are elected for three year terms, all positions are at lar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vel City Council has six members, the mayor serves on the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are not compensated for their service.</a:t>
            </a:r>
            <a:br>
              <a:rPr sz="4400"/>
            </a:br>
            <a:br>
              <a:rPr sz="4400"/>
            </a:br>
            <a:r>
              <a:rPr b="0" lang="en-US" sz="4400" spc="-1" strike="noStrike">
                <a:solidFill>
                  <a:srgbClr val="000000"/>
                </a:solidFill>
                <a:latin typeface="Calibri"/>
              </a:rPr>
              <a:t>Neither is the 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earland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wer of city councils varies depending on the structure established in the charter. Some charters grant a great degree of power to the city council, others to the mayor.</a:t>
            </a:r>
            <a:br>
              <a:rPr sz="3600"/>
            </a:br>
            <a:br>
              <a:rPr sz="3600"/>
            </a:br>
            <a:r>
              <a:rPr b="0" lang="en-US" sz="3600" spc="-1" strike="noStrike">
                <a:solidFill>
                  <a:srgbClr val="000000"/>
                </a:solidFill>
                <a:latin typeface="Calibri"/>
              </a:rPr>
              <a:t>Let’s review the basic forms of city government and understand what it means for the power of the city counci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ext from the Pearland City Council Web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ity of Pearland is governed by the Council/Manager form of government in accordance with the Home Rule Charter adopted by the voters in February, 1971. </a:t>
            </a:r>
            <a:br>
              <a:rPr sz="2800"/>
            </a:br>
            <a:br>
              <a:rPr sz="2800"/>
            </a:br>
            <a:r>
              <a:rPr b="0" lang="en-US" sz="2800" spc="-1" strike="noStrike">
                <a:solidFill>
                  <a:srgbClr val="000000"/>
                </a:solidFill>
                <a:latin typeface="Calibri"/>
              </a:rPr>
              <a:t>The City Council is the legislative and policy-making body of the city. It consists of 5 members elected at-large for 3-year, staggered terms. Elections are held annually on the second Saturday in May. The Mayor and Council provide community leadership, develop policies to guide the city in delivering services and achieving community goals, and encourage citizen awareness and involv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ess otherwise rescheduled, the City Council meets on the second and fourth Mondays of each month at 7:30 p.m. at City Hall. Meeting agendas are posted to the city web site at least 72 hours in advance of meet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are paid $9,000 a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s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 can be fou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from the co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presides over the city council, but can only vote in case of a ti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aggered elections work as follows: In the first election year after adoption of the charter, two (2) councilmembers shall be elected for positions 1 and 5. In the second election year after adoption of this charter, the mayor and one (1) councilmember for position 3 shall be elected. In the third election year after adoption of this charter two (2) councilmembers shall be elected for positions 2 and 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 Limits: “Councilmembers shall be limited to two (2) full consecutive elected terms of office, and there shall be no limitation on the office of may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council are spelled out in </a:t>
            </a:r>
            <a:r>
              <a:rPr b="0" lang="en-US" sz="4400" spc="-1" strike="noStrike" u="sng">
                <a:solidFill>
                  <a:srgbClr val="0000ff"/>
                </a:solidFill>
                <a:uFillTx/>
                <a:latin typeface="Calibri"/>
                <a:hlinkClick r:id="rId1"/>
              </a:rPr>
              <a:t>Article 3, Section 3.07</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quick graphic look</a:t>
            </a:r>
            <a:r>
              <a:rPr b="0" lang="en-US" sz="4400" spc="-1" strike="noStrike">
                <a:solidFill>
                  <a:srgbClr val="000000"/>
                </a:solidFill>
                <a:latin typeface="Calibri"/>
              </a:rPr>
              <a:t> at each form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regarding the meetings of the city council are contained in </a:t>
            </a:r>
            <a:r>
              <a:rPr b="0" lang="en-US" sz="4400" spc="-1" strike="noStrike" u="sng">
                <a:solidFill>
                  <a:srgbClr val="0000ff"/>
                </a:solidFill>
                <a:uFillTx/>
                <a:latin typeface="Calibri"/>
                <a:hlinkClick r:id="rId1"/>
              </a:rPr>
              <a:t>Article 3, Section 3.08</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cil’s rules of procedure are in </a:t>
            </a:r>
            <a:r>
              <a:rPr b="0" lang="en-US" sz="4400" spc="-1" strike="noStrike" u="sng">
                <a:solidFill>
                  <a:srgbClr val="0000ff"/>
                </a:solidFill>
                <a:uFillTx/>
                <a:latin typeface="Calibri"/>
                <a:hlinkClick r:id="rId1"/>
              </a:rPr>
              <a:t>Article 3, Section 3.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s for passing ordinances or resolutions are in </a:t>
            </a:r>
            <a:r>
              <a:rPr b="0" lang="en-US" sz="4400" spc="-1" strike="noStrike" u="sng">
                <a:solidFill>
                  <a:srgbClr val="0000ff"/>
                </a:solidFill>
                <a:uFillTx/>
                <a:latin typeface="Calibri"/>
                <a:hlinkClick r:id="rId1"/>
              </a:rPr>
              <a:t>Article 3, Section 3.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escription of the </a:t>
            </a:r>
            <a:r>
              <a:rPr b="0" lang="en-US" sz="3600" spc="-1" strike="noStrike" u="sng">
                <a:solidFill>
                  <a:srgbClr val="0000ff"/>
                </a:solidFill>
                <a:uFillTx/>
                <a:latin typeface="Calibri"/>
                <a:hlinkClick r:id="rId1"/>
              </a:rPr>
              <a:t>Houston City Council from its website</a:t>
            </a:r>
            <a:r>
              <a:rPr b="0" lang="en-US" sz="3600" spc="-1" strike="noStrike">
                <a:solidFill>
                  <a:srgbClr val="000000"/>
                </a:solidFill>
                <a:latin typeface="Calibri"/>
              </a:rPr>
              <a:t>:</a:t>
            </a:r>
            <a:br>
              <a:rPr sz="2800"/>
            </a:br>
            <a:br>
              <a:rPr sz="2800"/>
            </a:br>
            <a:r>
              <a:rPr b="0" lang="en-US" sz="2800" spc="-1" strike="noStrike">
                <a:solidFill>
                  <a:srgbClr val="000000"/>
                </a:solidFill>
                <a:latin typeface="Calibri"/>
              </a:rPr>
              <a:t>The </a:t>
            </a:r>
            <a:r>
              <a:rPr b="0" lang="en-US" sz="2800" spc="-1" strike="noStrike" u="sng">
                <a:solidFill>
                  <a:srgbClr val="0000ff"/>
                </a:solidFill>
                <a:uFillTx/>
                <a:latin typeface="Calibri"/>
                <a:hlinkClick r:id="rId2"/>
              </a:rPr>
              <a:t>City Council</a:t>
            </a:r>
            <a:r>
              <a:rPr b="0" lang="en-US" sz="2800" spc="-1" strike="noStrike">
                <a:solidFill>
                  <a:srgbClr val="000000"/>
                </a:solidFill>
                <a:latin typeface="Calibri"/>
              </a:rPr>
              <a:t> is the City's legislative body, with the power to enact and enforce all ordinances and resolutions. </a:t>
            </a:r>
            <a:br>
              <a:rPr sz="2800"/>
            </a:br>
            <a:br>
              <a:rPr sz="2800"/>
            </a:br>
            <a:r>
              <a:rPr b="0" lang="en-US" sz="2800" spc="-1" strike="noStrike">
                <a:solidFill>
                  <a:srgbClr val="000000"/>
                </a:solidFill>
                <a:latin typeface="Calibri"/>
              </a:rPr>
              <a:t>Eleven Council Members are elected from districts and five are elected at-large, by all voters of the City. The sixteen members of Council, along with the Mayor, act only by ordinance, resolution or motion. They adopt and may alter the annual budget and confirm the Mayor's appointm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cil is responsible for the appropriation and issuance of bonds, the awarding of contracts and the approval of City expenditures over $50,000. Council may lease or dispose of the City's real estate and may levy assessments against property. Council determines its own rules of procedure, and its meetings are open to the publi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City Council has </a:t>
            </a:r>
            <a:r>
              <a:rPr b="0" lang="en-US" sz="4400" spc="-1" strike="noStrike" u="sng">
                <a:solidFill>
                  <a:srgbClr val="0000ff"/>
                </a:solidFill>
                <a:uFillTx/>
                <a:latin typeface="Calibri"/>
                <a:hlinkClick r:id="rId1"/>
              </a:rPr>
              <a:t>its own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t>
            </a:r>
            <a:r>
              <a:rPr b="0" lang="en-US" sz="4400" spc="-1" strike="noStrike" u="sng">
                <a:solidFill>
                  <a:srgbClr val="0000ff"/>
                </a:solidFill>
                <a:uFillTx/>
                <a:latin typeface="Calibri"/>
                <a:hlinkClick r:id="rId1"/>
              </a:rPr>
              <a:t>Pew Center report contrasting</a:t>
            </a:r>
            <a:r>
              <a:rPr b="0" lang="en-US" sz="4400" spc="-1" strike="noStrike">
                <a:solidFill>
                  <a:srgbClr val="000000"/>
                </a:solidFill>
                <a:latin typeface="Calibri"/>
              </a:rPr>
              <a:t> the city councils of major cities along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City Council is run with the help of an administrative staff:</a:t>
            </a:r>
            <a:br>
              <a:rPr sz="4400"/>
            </a:br>
            <a:br>
              <a:rPr sz="4400"/>
            </a:br>
            <a:r>
              <a:rPr b="0" lang="en-US" sz="4400" spc="-1" strike="noStrike" u="sng">
                <a:solidFill>
                  <a:srgbClr val="0000ff"/>
                </a:solidFill>
                <a:uFillTx/>
                <a:latin typeface="Calibri"/>
                <a:hlinkClick r:id="rId1"/>
              </a:rPr>
              <a:t>Administrative Office of City Counci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are strongest in the council-manager and weak mayor –council fo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City Council is contained in </a:t>
            </a:r>
            <a:r>
              <a:rPr b="0" lang="en-US" sz="4400" spc="-1" strike="noStrike" u="sng">
                <a:solidFill>
                  <a:srgbClr val="0000ff"/>
                </a:solidFill>
                <a:uFillTx/>
                <a:latin typeface="Calibri"/>
                <a:hlinkClick r:id="rId1"/>
              </a:rPr>
              <a:t>Article V of the Houston Code of Ordinanc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details of the power of the City Council are found in </a:t>
            </a:r>
            <a:r>
              <a:rPr b="0" lang="en-US" sz="4400" spc="-1" strike="noStrike" u="sng">
                <a:solidFill>
                  <a:srgbClr val="0000ff"/>
                </a:solidFill>
                <a:uFillTx/>
                <a:latin typeface="Calibri"/>
                <a:hlinkClick r:id="rId2"/>
              </a:rPr>
              <a:t>Article VII of the Houston 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de does not state that Houston has a strong-mayor system, but that’s what it outl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 of Article V</a:t>
            </a:r>
            <a:r>
              <a:rPr b="0" lang="en-US" sz="4400" spc="-1" strike="noStrike">
                <a:solidFill>
                  <a:srgbClr val="000000"/>
                </a:solidFill>
                <a:latin typeface="Calibri"/>
              </a:rPr>
              <a:t> lists the number of members elected from single members districts and those elected from at-large districts. </a:t>
            </a:r>
            <a:br>
              <a:rPr sz="4400"/>
            </a:br>
            <a:br>
              <a:rPr sz="4400"/>
            </a:br>
            <a:r>
              <a:rPr b="0" lang="en-US" sz="4000" spc="-1" strike="noStrike">
                <a:solidFill>
                  <a:srgbClr val="000000"/>
                </a:solidFill>
                <a:latin typeface="Calibri"/>
              </a:rPr>
              <a:t>Once Houston’s population surpassed 2,100,000, it had 11 single member districts and 5 at lar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3 of Article V</a:t>
            </a:r>
            <a:r>
              <a:rPr b="0" lang="en-US" sz="4400" spc="-1" strike="noStrike">
                <a:solidFill>
                  <a:srgbClr val="000000"/>
                </a:solidFill>
                <a:latin typeface="Calibri"/>
              </a:rPr>
              <a:t> grants to the City Council the power to establish its own boundaries, with the stipulation that it address any imbalance that devel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4</a:t>
            </a:r>
            <a:r>
              <a:rPr b="0" lang="en-US" sz="4400" spc="-1" strike="noStrike">
                <a:solidFill>
                  <a:srgbClr val="000000"/>
                </a:solidFill>
                <a:latin typeface="Calibri"/>
              </a:rPr>
              <a:t> outlines the qualifications for office. In addition to being a qualified voter and a resident of the city, and have resided in the district they wish to represent to at least 12 mon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Section 5</a:t>
            </a:r>
            <a:r>
              <a:rPr b="0" lang="en-US" sz="3600" spc="-1" strike="noStrike">
                <a:solidFill>
                  <a:srgbClr val="000000"/>
                </a:solidFill>
                <a:latin typeface="Calibri"/>
              </a:rPr>
              <a:t> states that City General Elections “shall be held on the first Tuesday after the first Monday in November of every odd-numbered year or such other day as may be prescribed by the general laws of the State of Texas.”</a:t>
            </a:r>
            <a:br>
              <a:rPr sz="3600"/>
            </a:br>
            <a:br>
              <a:rPr sz="3600"/>
            </a:br>
            <a:r>
              <a:rPr b="0" lang="en-US" sz="3600" spc="-1" strike="noStrike">
                <a:solidFill>
                  <a:srgbClr val="000000"/>
                </a:solidFill>
                <a:latin typeface="Calibri"/>
              </a:rPr>
              <a:t>The fact that these elections are held on odd numbered years means that turnout for city elections tend to be very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6</a:t>
            </a:r>
            <a:r>
              <a:rPr b="0" lang="en-US" sz="4400" spc="-1" strike="noStrike">
                <a:solidFill>
                  <a:srgbClr val="000000"/>
                </a:solidFill>
                <a:latin typeface="Calibri"/>
              </a:rPr>
              <a:t> states what one has to do to file for office. It incudes filing a sworn application at least 30 days prior to the election and paying a $500 filing f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 Limits are discussed in </a:t>
            </a:r>
            <a:r>
              <a:rPr b="0" lang="en-US" sz="4400" spc="-1" strike="noStrike" u="sng">
                <a:solidFill>
                  <a:srgbClr val="0000ff"/>
                </a:solidFill>
                <a:uFillTx/>
                <a:latin typeface="Calibri"/>
                <a:hlinkClick r:id="rId1"/>
              </a:rPr>
              <a:t>Section 6a</a:t>
            </a:r>
            <a:r>
              <a:rPr b="0" lang="en-US" sz="4400" spc="-1" strike="noStrike">
                <a:solidFill>
                  <a:srgbClr val="000000"/>
                </a:solidFill>
                <a:latin typeface="Calibri"/>
              </a:rPr>
              <a:t>: “No person, who has already served two full terms, shall be eligible to file for that sam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II of the Code</a:t>
            </a:r>
            <a:r>
              <a:rPr b="0" lang="en-US" sz="4400" spc="-1" strike="noStrike">
                <a:solidFill>
                  <a:srgbClr val="000000"/>
                </a:solidFill>
                <a:latin typeface="Calibri"/>
              </a:rPr>
              <a:t> details how the council does busin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t>
            </a:r>
            <a:r>
              <a:rPr b="0" lang="en-US" sz="4400" spc="-1" strike="noStrike" u="sng">
                <a:solidFill>
                  <a:srgbClr val="0000ff"/>
                </a:solidFill>
                <a:uFillTx/>
                <a:latin typeface="Calibri"/>
                <a:hlinkClick r:id="rId1"/>
              </a:rPr>
              <a:t>council – manager</a:t>
            </a:r>
            <a:r>
              <a:rPr b="0" lang="en-US" sz="4400" spc="-1" strike="noStrike">
                <a:solidFill>
                  <a:srgbClr val="000000"/>
                </a:solidFill>
                <a:latin typeface="Calibri"/>
              </a:rPr>
              <a:t> form (which is very popular locally) the mayor is ceremonial and is sometimes little more than a council members with a different title. The council establishes policy, passes ordinances, votes on the budget and appropriations, and articulates a vision for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of Article VII states that City Council members shall receive a compensation which was originally set at $3,6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now paid $56,000.</a:t>
            </a:r>
            <a:br>
              <a:rPr sz="4400"/>
            </a:br>
            <a:br>
              <a:rPr sz="4400"/>
            </a:br>
            <a:r>
              <a:rPr b="0" lang="en-US" sz="4400" spc="-1" strike="noStrike" u="sng">
                <a:solidFill>
                  <a:srgbClr val="0000ff"/>
                </a:solidFill>
                <a:uFillTx/>
                <a:latin typeface="Calibri"/>
                <a:hlinkClick r:id="rId1"/>
              </a:rPr>
              <a:t>Click here for a comparison</a:t>
            </a:r>
            <a:r>
              <a:rPr b="0" lang="en-US" sz="4400" spc="-1" strike="noStrike">
                <a:solidFill>
                  <a:srgbClr val="000000"/>
                </a:solidFill>
                <a:latin typeface="Calibri"/>
              </a:rPr>
              <a:t> with area council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 are expected to serve full time, but the code of ordinances states they “shall not be required to devote their full time to the duties of their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3</a:t>
            </a:r>
            <a:r>
              <a:rPr b="0" lang="en-US" sz="4400" spc="-1" strike="noStrike">
                <a:solidFill>
                  <a:srgbClr val="000000"/>
                </a:solidFill>
                <a:latin typeface="Calibri"/>
              </a:rPr>
              <a:t> describes how meetings are to be conduc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sections outline miscellaneous aspects of the power of the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2:58:26Z</dcterms:created>
  <dc:creator>Kevin Jefferies</dc:creator>
  <dc:description/>
  <dc:language>en-US</dc:language>
  <cp:lastModifiedBy>Kevin Jefferies</cp:lastModifiedBy>
  <dcterms:modified xsi:type="dcterms:W3CDTF">2012-10-10T11:15:52Z</dcterms:modified>
  <cp:revision>93</cp:revision>
  <dc:subject/>
  <dc:title>GOVT 2306</dc:title>
</cp:coreProperties>
</file>